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2B67-F0FA-41F5-A202-14BA628D0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D26C-CEA9-4283-B6EA-98986D86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4DAA-051C-4554-9D07-8ED77EE3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F02B-13D8-4049-9DE7-D1E6CC3A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5503-728D-447C-8A4B-AA2C80F6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A169-C38F-4B7D-9E7C-61D6C2E9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2512-FA59-4444-BD27-E5431BFE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9914-458F-4565-932B-B556E5A0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000C-4B71-44D3-B670-88DB3258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16EF-F6DF-413D-945A-CE7AD10C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9317-4C9A-43AB-AE78-C8388CC0C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3FA9-C0F3-4AFD-8204-9451B438D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39612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1016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2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LECTRONIC COMMUN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67ab"/>
                </a:solidFill>
                <a:latin typeface="Verdana"/>
              </a:rPr>
              <a:t>A SYSTEMS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5154840" y="29718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0132988631b.jpg"/>
          <p:cNvPicPr/>
          <p:nvPr/>
        </p:nvPicPr>
        <p:blipFill>
          <a:blip r:embed="rId4"/>
          <a:stretch/>
        </p:blipFill>
        <p:spPr>
          <a:xfrm>
            <a:off x="609480" y="1905120"/>
            <a:ext cx="321624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50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DDBD-E884-43A7-84EB-E86E8D6AF38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C436-202F-4BD0-B429-FA30E327FE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5029200" y="3809880"/>
            <a:ext cx="3809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Digital Communications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6736320" y="255888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  <a:ea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ulse-Code Mod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CM Encoding Ste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ntiz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CM Decoding Ste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gen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nstr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ulse-Code Mod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ample-and-Hold Circui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nctions as modulator in PCM system; information signal sampl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unction field-effect transistor (JFET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aloxide semiconductor field-effect transistor (MOSFET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ulse-Code Mod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ample-and-Hold Circui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quisition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mount of time it takes for hold circuit to reach its final valu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erture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ime S/H circuit must hold sampled volt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ulse-Code Mod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atural and Flat-top Sampl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ural samp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ps of sampled waveform retain their natural shap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lat-top samp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ample signal voltage held constant between samp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ulse-Code Mod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ant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level corresponds to different binary numb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ch quantization level step-si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Quantile or quantile interval; d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ermines resolution of digitizing syste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ulse-Code Mod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68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ynamic Range/Signal-to-Noise Calcul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ynamic range (D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63800" indent="-22392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tio of maximum input or output voltage level to smallest voltage level quantized and/or reproduced by converter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al-to-noise ratio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(S/N)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al-to-quantization-noise level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(S/N)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ulse-Code Mod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pand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nlinear or nonuniform co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quantile interval step-size may vary in magnitud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ulse-Code Mod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dle Channel Noi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ise source of small amplitude that exists in channel independent of analog input signal and quantized by ADC convert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mplitude Compand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ume compression before transmission and expansion after detec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ulse-Code Mod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ding and Analog-to-Digital Con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quantized value as binary wor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nction of analog-to-digital (ADC) conver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ulse-Code Mod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gital-to-Analog Convert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gital-to-analog (DAC) conver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construction of analog signal from PCM represent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vert digital (binary) bit stream to analog sign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roduction to Digital Communica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r communications to take place digitally, analog signals converted to discrete samples for transmission as dat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ata coded (prepared) for transmission over communications channel that does not provide direct electrical continuity between transmitter and receiv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ding Principl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creasing an error depends on transmission system used and digital encoding and modulation techniques employe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amming di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tance between each defined state (minimum distance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e Table 7-1: Error Detection and Correction Based on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Verdana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66688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7-1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Error Detection and Correction Based on </a:t>
            </a:r>
            <a:r>
              <a:rPr b="0" i="1" lang="en-US" sz="11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i="1" lang="en-US" sz="1100" spc="-1" strike="noStrike" baseline="-25000">
                <a:solidFill>
                  <a:srgbClr val="000000"/>
                </a:solidFill>
                <a:latin typeface="Verdana"/>
              </a:rPr>
              <a:t>min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4" descr="tab07_01.jpg"/>
          <p:cNvPicPr/>
          <p:nvPr/>
        </p:nvPicPr>
        <p:blipFill>
          <a:blip r:embed="rId1"/>
          <a:stretch/>
        </p:blipFill>
        <p:spPr>
          <a:xfrm>
            <a:off x="228600" y="2306520"/>
            <a:ext cx="8686800" cy="224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ding Principle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OR operation that yields smallest result tells which is correct cod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de Error Detection and Corre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ar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t common method of error detec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gle (parity) bit added to each code represent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tomatic request for retransmission (ARQ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play of unused symbol for character with parity error (symbol substitution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de Error Detection and Corre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lock Check Character (BCC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lo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oup of characters transmitted with no time gap between them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ed by end-of-message (EOM) indicator and then BC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ngitudinal redundancy check (LRC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de Error Detection and Corre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yclic Redundancy Check (CRC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of the most powerful error-detection schemes; mathematical techniq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RC Code-Dividing Circui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receive side, received code verified by feeding received serial CRC code into CRC dividing circui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de Error Detection and Corre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amming Co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s that allow correction at receiver are forward error-correcting (FEC) cod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fficient redundancy to allow error correction without further input from transmitt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detect only single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ode Error Detection and Corre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ed–Solomon Co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ward error-correcting codes (FEC) like Hamming cod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detect multiple erro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leav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chnique used to rearrange data into nonlinear ordering scheme to improve chance of correcting data error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gital Signal Process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gital Signal Processing (DSP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thematical functions to control characteristics of digitized sign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ract information from processed signal, usually in presence of noi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ccurs in real time/nearly real tim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gital Signal Process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gital Signal Processing (DSP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sily reprogrammed; more flexi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ulates almost all communications system func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SP processing and filtering used in almost every area of electronic communic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roduction to Digital Communicatio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rror detection/correction techniques deployed to enhance performance in presence of nois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gital Signal Process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SP Filter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finitely narrow puls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ters that exhibit properties of sinc function (sin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/x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ters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gital Signal Process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SP Filter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ter to which impulse applied at its input will output signal whose impulse response is equal to that of filter frequency respon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IR filter recursiv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 filter nonrecursiv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gital Signal Process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SP Filter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ce eq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63800" indent="-22392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sent digital sample value of input signal with number of previous input values (possibly previous output values) to generate output sign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orithms employing previous output values are recursive or iterativ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SP techniques increasingly form heart of digital implementations of all typ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ulse Modulation and Multiplexing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ulse Modul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mit only samples and let receiver reconstruct total signal with high degree of accuracy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ultiplex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veying two or more information signals over single transmission channe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ulse Modulation and Multiplexing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me-division Multiplexing (TDM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uter time sharing; several users make use of computer simultaneousl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ulse Modulation and Multiplexing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ulse-Amplitude Modulation (PAM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lse amplitude made proportional to amplitude of modulating sign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ulse-Width Modulation (PWM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m of PT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lse-duration modulation (PDM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lse-length modulation (PLM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is for class D power amplific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ulse Modulation and Multiplexing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ulse-Position Modulation (PPM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erior noise characteristic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jor use for PWM is to generate PP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modul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oducing original analog sign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PM signal converted to PWM, then demodulated using technique for demodulating PW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ample Rate and Nyquist Frequenc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ct of sampling an analog waveform is form of modulation because of interaction that takes place between sampled pulses and information signa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ample Rate and Nyquist Frequenc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ample rate must be at least twice the highest frequency of intelligence or information signal to be sample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yquist ra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nimum sample ra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12:47:34Z</dcterms:created>
  <dc:creator>Thomas Dunn</dc:creator>
  <dc:description/>
  <dc:language>en-US</dc:language>
  <cp:lastModifiedBy>Thomas Dunn</cp:lastModifiedBy>
  <dcterms:modified xsi:type="dcterms:W3CDTF">2013-05-14T05:14:39Z</dcterms:modified>
  <cp:revision>5</cp:revision>
  <dc:subject/>
  <dc:title>Slide 1</dc:title>
</cp:coreProperties>
</file>